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BE2-8DAC-4D3A-A234-B6263526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3D4-8FA6-4B4B-BB24-80D2755B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570-4F10-4397-8923-070BBAA7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0A1-71E1-4FEB-98A6-6DBAC3A2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FB31-4C4D-4425-BE6B-82EA2627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473C-DB30-4702-8B17-0FD9C5C1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6E43-7CCE-4605-BF5E-82E4FAE3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C111-12AA-4D84-84D8-836B9BE9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62F4-FF90-48B8-BC98-E7073E75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E1E5-40A4-4AC8-A590-DB4FE3A3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A8A5-351D-4453-9BD0-1852C546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F53-AD30-4EF6-A621-A7985389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D4E0-31ED-4FFE-A40E-7844DF0B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46AB-94AD-4CCF-BD00-4C5D9C46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4C04-A7D6-4A3F-B2A9-F9355015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2376-A450-4CF4-B13B-885A3B7C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45A4-80D0-45B1-9879-0E9174E6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B94AD-E73B-41B5-AF07-1C9AEC7E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02AED-B8DA-4C1A-A130-C38F4116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2BB9B-AE10-450F-A00A-7DB68331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AD3F9-B0A1-4498-9C92-E2553F54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1A605-1384-401A-8BA3-14BB5C94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491-281A-47EA-A08A-062A5D2A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1F67-E59C-4FB5-8AA4-14CC5678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2706-13DE-453E-8833-1407016C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7C644-A629-40BB-8E8D-802D877C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C8C9-48EC-4957-9D16-7B86646B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F42D5-66C9-4273-AF9B-0A562732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567A-70D0-427D-97A5-63EA052B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1CCF3-23B5-45BC-8B9D-C3242FA2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93DCC-EBC6-400A-860A-09DCC893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6CDFA-AC4F-410B-8755-5B7C604C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C233F-A08F-45AA-B871-53772FF0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5DF-1F93-4280-ABB7-46399CC9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F9228-09F9-44CD-9F20-763C5DEE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445CD-FDEF-4FD0-B6FD-74A39EB2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F0F0E-764A-45C2-9023-039DA2E2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B73B1-A7FD-4A5B-BD9E-8456A7DB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FF6F4-E233-4FFD-9A64-40DFFD9E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C4760-A77F-494B-9463-C7C25B34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0A370-C71F-40C3-93C9-6E096901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9601-80F8-4C13-B845-876EA75D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BD96D-A7BB-4126-BF01-FBDC4965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079-3C48-4B8D-AB49-FE1BC8CA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7DA-3B83-4B66-BA64-77672E01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918-92C4-4C08-A7F8-F99E39F2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031-064B-4466-8E90-12A1344E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90F-159F-4DF3-891F-ABA0B579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0B76-4BF4-495F-91BC-39E6CEF2288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E6CF-DB3D-4596-A7EB-2DB2BB0B7BB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7BE8-3AE7-4303-80B8-A6189EF8E9E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9D3E-110B-4BD1-84DF-52E0DD8CE3C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google.com/imgres?imgurl=http://blogs.seattleweekly.com/voracious/corn.jpg&amp;imgrefurl=http://blogs.seattleweekly.com/voracious/2008/09/do_not_open_the_corn.php&amp;usg=__KkD4Xvw50_qcZfG_KC7deyVxCKw=&amp;h=300&amp;w=360&amp;sz=33&amp;hl=en&amp;start=3&amp;zoom=1&amp;itbs=1&amp;tbnid=jC7yjzfxn9PXgM:&amp;tbnh=101&amp;tbnw=121&amp;prev=/images%3Fq%3DCorn%26hl%3Den%26gbv%3D2%26tbs%3Disch:1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RUSSIA’S  ECONOMY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y Allessandra Toscanini, Darren Chau, and Skerdilaid Hoti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9718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29811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Broadway"/>
              </a:rPr>
              <a:t>FOOD PRODUCED IN RUSSI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tato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gar be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Broadway"/>
              </a:rPr>
              <a:t>Manufacturing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St. Petersburg is a shipbuilding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Most manufacturing centers are in western Russ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Factories focus on heavy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Some factories switched to light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Factories in St. Petersburg make light machinery, textiles, and scientific and medical equip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4674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resourc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uxite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Gold, C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ron, Le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etroli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in, Zin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81280" y="1599840"/>
            <a:ext cx="511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old is one of Russia top sour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C:\Users\cool\AppData\Local\Microsoft\Windows\Temporary Internet Files\Content.IE5\2IUTAM3Y\MP900289272[1].jpg"/>
          <p:cNvPicPr/>
          <p:nvPr/>
        </p:nvPicPr>
        <p:blipFill>
          <a:blip r:embed="rId2"/>
          <a:stretch/>
        </p:blipFill>
        <p:spPr>
          <a:xfrm>
            <a:off x="4572000" y="2209680"/>
            <a:ext cx="30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industr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26708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7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ndustrial production growth  rate 13.1%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tals are used to make advanced air crafts, ships , missiles,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Defensive technology include- radars, and advanced electronics components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dical and scientific industry include- textiles ,handicrafts ,foodstuff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oad and rail transportation include- communication equipment, tractors, agriculture machinery, and construction equipment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MS900074858[1].wav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Users\cool\AppData\Local\Microsoft\Windows\Temporary Internet Files\Content.IE5\2IUTAM3Y\MP900390146[1].jpg"/>
          <p:cNvPicPr/>
          <p:nvPr/>
        </p:nvPicPr>
        <p:blipFill>
          <a:blip r:embed="rId3"/>
          <a:stretch/>
        </p:blipFill>
        <p:spPr>
          <a:xfrm>
            <a:off x="5105520" y="17524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1476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scow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cow  is Russia economic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argest transportation h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actories are focused on heavy industr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opulation  10,470,318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74800" y="1447560"/>
            <a:ext cx="5111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C:\Users\cool\AppData\Local\Microsoft\Windows\Temporary Internet Files\Content.IE5\04V09QGG\MC900101208[1].wmf"/>
          <p:cNvPicPr/>
          <p:nvPr/>
        </p:nvPicPr>
        <p:blipFill>
          <a:blip r:embed="rId2"/>
          <a:stretch/>
        </p:blipFill>
        <p:spPr>
          <a:xfrm>
            <a:off x="3962520" y="2286000"/>
            <a:ext cx="4671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ussia port c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ussia has 5 important ports c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t is hard for  the port cities to transport goods because  the water in all the other port cities are froze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aliningrad, and St. Petersburg. Murmansk, Vladivostok, and Astrakh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aliningrad has eliminated all taxes on shipping goo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. Petersburg makes light machinery, textiles, scientific, and medical equipm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ile the other port cities trade bring goods to Russia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2"/>
          <a:stretch/>
        </p:blipFill>
        <p:spPr>
          <a:xfrm>
            <a:off x="530280" y="1311120"/>
            <a:ext cx="7864560" cy="2505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9:15:47Z</dcterms:created>
  <dc:creator>cool</dc:creator>
  <dc:description/>
  <dc:language>en-US</dc:language>
  <cp:lastModifiedBy> </cp:lastModifiedBy>
  <dcterms:modified xsi:type="dcterms:W3CDTF">2010-12-20T19:38:58Z</dcterms:modified>
  <cp:revision>19</cp:revision>
  <dc:subject/>
  <dc:title>Economy</dc:title>
</cp:coreProperties>
</file>